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D9E-0750-44D3-AD76-6714C767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30BC-D880-4AB1-9AF2-571F1F6C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888-826D-4BD9-A4EC-5FFC7F26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AFD7-87F4-4866-91DA-26F0F1ED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9BDA-2E69-4F22-9F34-3EEB645D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5748-5ACF-439E-9802-AB8083D22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EC6-E66B-4059-989A-518644155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A6C-FF3C-4401-8F3B-3F0F543D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D71F-C531-45EC-8875-0444290E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58B-090E-4E7A-96DB-5DFF0820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9DB7-CF59-49E3-8375-6787A7A8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EE06-DC14-4448-BA7D-2408CB86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468E-8CD2-42D1-821D-A4C1DF57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F11-9482-470E-8E50-5B726562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3B8-9511-439A-8161-E48ACDCB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053-FE1C-47D7-A8C6-616FC3D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A7D-3EF5-4590-9A69-51401989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9FE-A5B3-45B1-9710-BA7FEF34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C02-A0DA-4C24-92C6-56F1E122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454-9349-4B01-AFDF-37B7F8D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34C-3DDF-4054-BE7C-2BDA685C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3DE-1548-4B1E-8ADE-1919F3E5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61F-C0B9-4C14-A507-99898EC0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69E-770A-43A3-8342-920F502A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43E-A174-4608-9EFF-436F8D8C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883-7CC0-4BA9-9AF8-D46A0B8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37E5-4F20-48B9-A7FD-F159329651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EAT DEPRESSION AND THE NEW 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Effect on the Great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in on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over claims, “no one has starve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dship affected all classes but middle class was hit the hard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usands of young homeless, jobless (25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quit high school to support famil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and African Americans are discriminated against for taking jobs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ther, Can You Spare a Dime," lyrics by Yip Harburg, music by Jay Gorney (193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used to tell me I was building a dream, and so I followed the mob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there was earth to plow, or guns to bear, I was always there right on the job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y used to tell me I was building a dream, with peace and glory ahead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should I be standing in line, just waiting for bread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railroad, I made it run, made it race against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railroad; now it's done. Brother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tower, up to the sun, brick, and rivet, and lime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 built a tower, now it's done. Brother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n khaki suits, gee we looked sw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of that Yankee Doodly Dum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a million boots went slogging through H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I was the kid with the drum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they called me Al; it was Al all the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y don't you remember, I'm your pal? Buddy, can you spare a dime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ce in khaki suits, gee we looked sw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of that Yankee Doodly Dum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a million boots went slogging through Hell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I was the kid with the drum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they called me Al; it was Al all the tim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y, don't you remember, I'm your pal? Buddy, can you spare a d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acOS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097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4952880" y="233676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you sure Hoov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0" descr=""/>
          <p:cNvPicPr/>
          <p:nvPr/>
        </p:nvPicPr>
        <p:blipFill>
          <a:blip r:embed="rId2"/>
          <a:stretch/>
        </p:blipFill>
        <p:spPr>
          <a:xfrm>
            <a:off x="1155600" y="4114800"/>
            <a:ext cx="28702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"/>
          <p:cNvPicPr/>
          <p:nvPr/>
        </p:nvPicPr>
        <p:blipFill>
          <a:blip r:embed="rId3"/>
          <a:stretch/>
        </p:blipFill>
        <p:spPr>
          <a:xfrm>
            <a:off x="1797120" y="1981080"/>
            <a:ext cx="15876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"/>
          <p:cNvPicPr/>
          <p:nvPr/>
        </p:nvPicPr>
        <p:blipFill>
          <a:blip r:embed="rId4"/>
          <a:stretch/>
        </p:blipFill>
        <p:spPr>
          <a:xfrm>
            <a:off x="5799240" y="1981080"/>
            <a:ext cx="150804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5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Ho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over initially sought solution through voluntary action, private cha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aided farmers with Farm Board to buy surpluses and bankers with loans through Reconstruction Finance Cor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us Army &amp; General MacArth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ed Democratic efforts to give direct aid to the unempl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ceived as  indifferent to human suff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R captures urban/farmer v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566"/>
          <p:cNvPicPr/>
          <p:nvPr/>
        </p:nvPicPr>
        <p:blipFill>
          <a:blip r:embed="rId2"/>
          <a:stretch/>
        </p:blipFill>
        <p:spPr>
          <a:xfrm>
            <a:off x="228600" y="1905120"/>
            <a:ext cx="3824280" cy="412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IVI7233TB2601"/>
          <p:cNvPicPr/>
          <p:nvPr/>
        </p:nvPicPr>
        <p:blipFill>
          <a:blip r:embed="rId3"/>
          <a:stretch/>
        </p:blipFill>
        <p:spPr>
          <a:xfrm>
            <a:off x="4343400" y="1905120"/>
            <a:ext cx="4579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ndred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R inaugural inspired with the term “nothing to fear, but fear itself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ystem saved from collap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een major laws provided rel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nnessee Valley Authority was the most ambitiou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Deal aimed to reform and restore, not nationalize, the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IVI7233568"/>
          <p:cNvPicPr/>
          <p:nvPr/>
        </p:nvPicPr>
        <p:blipFill>
          <a:blip r:embed="rId3"/>
          <a:stretch/>
        </p:blipFill>
        <p:spPr>
          <a:xfrm>
            <a:off x="4572000" y="2133720"/>
            <a:ext cx="42670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sevelt Recovery/Relief/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covery 1933-19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te codes for industry, labor, and agricul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A, Wagner Act, AAA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lief 1935-19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people back to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VA, CCC, WPA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sevelt and Reform 1933-19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immediate problems in banking and fin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DIC, SEC, FCC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935 FDR started shift to a economic reform “broker state” to end historical inequities in American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SA, Wagner Act, NLRB, 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d the New Deal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DIVI7233562"/>
          <p:cNvPicPr/>
          <p:nvPr/>
        </p:nvPicPr>
        <p:blipFill>
          <a:blip r:embed="rId2"/>
          <a:stretch/>
        </p:blipFill>
        <p:spPr>
          <a:xfrm>
            <a:off x="762120" y="1981080"/>
            <a:ext cx="761976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New Deal and American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Deal’s lim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ression not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system not fundamentally alte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done for those without political cl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ecurity, the Wagner Act, Security Exchange Act, etc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realignment of the 1930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 Appears Healt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-9940" t="0" r="-9940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Hoover takes office, the economy looks to be in fine sh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1929, stock values hit 87 b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ty the economy is headed toward disas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even Prospe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4" descr="TASv3_220106C.jpg"/>
          <p:cNvPicPr/>
          <p:nvPr/>
        </p:nvPicPr>
        <p:blipFill>
          <a:blip r:embed="rId2"/>
          <a:srcRect l="-82187" t="0" r="-82187" b="0"/>
          <a:stretch/>
        </p:blipFill>
        <p:spPr>
          <a:xfrm>
            <a:off x="380880" y="1523880"/>
            <a:ext cx="475956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ich got richer, poor got poor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p 1% (24,000) of the population incomes rose by 7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70% of the population made less then 2,500 a year (minimum amount for a decent standard of liv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fits should have been used to increase wa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ying on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bought radios, refrigerators, and other new products they could not aff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llment plans made expensive items look irresis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as a huge increase in personal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0% of people had no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ying the Stock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began (speculating) playing the stock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bought on margin-Purchase a stock for only a fraction of its price (10%) and borrow the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kers charged a HIGH interest rates and could demand repayment at any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7" descr="TASv3_220107C.jpg"/>
          <p:cNvPicPr/>
          <p:nvPr/>
        </p:nvPicPr>
        <p:blipFill>
          <a:blip r:embed="rId2"/>
          <a:stretch/>
        </p:blipFill>
        <p:spPr>
          <a:xfrm>
            <a:off x="4648320" y="1569960"/>
            <a:ext cx="3733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 many Goods, too little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ivity increased 43%, wages only by 1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ehouses held piles of surplu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production caused some industries to slow in the late 192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production led to layof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market slows to a stand st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ships of Farmers and Wor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es of wheat, cotton, and other farm goods plummeted making it hard for farmers to repay loans they took out during 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Nary-Haugen Bill (price-supports) is vetoed by Cooli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stbowl hits Midwest farmers in the 30’s comp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ck Market Crashes 19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 Jones Industrial Average was the most widely used barometer of the health of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ors start to pull/sell stock sending out a panic among rest of the investor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Thursday (10/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ck Tuesday (10/2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all losses is 30 billion doll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-GE was $400 a share and dropped to $28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 of all banks close due to bankruptc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a severe economic decline that will last from 1929 until WWII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buClr>
                <a:srgbClr val="ff2b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26"/>
              </a:spcBef>
              <a:buClr>
                <a:srgbClr val="ff2b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640400" y="2133720"/>
            <a:ext cx="419868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IVI550"/>
          <p:cNvPicPr/>
          <p:nvPr/>
        </p:nvPicPr>
        <p:blipFill>
          <a:blip r:embed="rId4"/>
          <a:stretch/>
        </p:blipFill>
        <p:spPr>
          <a:xfrm>
            <a:off x="4572000" y="22096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how these indicators from the great depression RELATE to each other and show the severity of the economic downturn during the 1930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TASv3_220109Ca"/>
          <p:cNvPicPr/>
          <p:nvPr/>
        </p:nvPicPr>
        <p:blipFill>
          <a:blip r:embed="rId2"/>
          <a:stretch/>
        </p:blipFill>
        <p:spPr>
          <a:xfrm>
            <a:off x="304920" y="3657600"/>
            <a:ext cx="261756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TASv3_220109Cb"/>
          <p:cNvPicPr/>
          <p:nvPr/>
        </p:nvPicPr>
        <p:blipFill>
          <a:blip r:embed="rId3"/>
          <a:stretch/>
        </p:blipFill>
        <p:spPr>
          <a:xfrm>
            <a:off x="6238800" y="3657600"/>
            <a:ext cx="247644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TASv3_220109Cc"/>
          <p:cNvPicPr/>
          <p:nvPr/>
        </p:nvPicPr>
        <p:blipFill>
          <a:blip r:embed="rId4"/>
          <a:stretch/>
        </p:blipFill>
        <p:spPr>
          <a:xfrm>
            <a:off x="3200400" y="3657600"/>
            <a:ext cx="254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4:44:42Z</dcterms:created>
  <dc:creator>Joshua Black</dc:creator>
  <dc:description/>
  <dc:language>en-US</dc:language>
  <cp:lastModifiedBy>Thaddeus J. Brooks</cp:lastModifiedBy>
  <dcterms:modified xsi:type="dcterms:W3CDTF">2013-10-28T14:17:40Z</dcterms:modified>
  <cp:revision>44</cp:revision>
  <dc:subject/>
  <dc:title>Reasons For Crash</dc:title>
</cp:coreProperties>
</file>